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F98E-0E75-45A6-AB16-81CA7D40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1254-205A-417F-9239-C9BEBC74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4681-E7C3-40C5-9007-9BB1F1AF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EC7A-05BB-41FF-9544-5F8A510D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286C-D74A-4D3B-83E7-FF617C83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B73B-FCD4-4C94-BD9D-71E2491A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3D20-3708-42CC-85BD-DA714B96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E77B-B7AA-4578-8D35-E26374FD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C480-1F82-4B14-B6F8-53508C00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E8F3-93D2-48FE-A907-6C76655B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4109-BCAD-4439-9050-E3429C87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6037-F888-4198-A7E4-9853CADE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4DDC-DB6D-48D5-82B5-33FF21774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67640" y="2133720"/>
            <a:ext cx="1295280" cy="228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2205000"/>
            <a:ext cx="1371600" cy="2217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-13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00" y="-91440"/>
            <a:ext cx="26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63640" y="3213000"/>
            <a:ext cx="2808360" cy="1486080"/>
          </a:xfrm>
          <a:prstGeom prst="wedgeEllipseCallout">
            <a:avLst>
              <a:gd name="adj1" fmla="val -73291"/>
              <a:gd name="adj2" fmla="val -87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l âge as-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2013120" cy="1454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461360" y="2133720"/>
            <a:ext cx="1682640" cy="1726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189000"/>
            <a:ext cx="2438640" cy="974520"/>
          </a:xfrm>
          <a:prstGeom prst="wedgeEllipseCallout">
            <a:avLst>
              <a:gd name="adj1" fmla="val -36199"/>
              <a:gd name="adj2" fmla="val 16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l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3280" y="189000"/>
            <a:ext cx="2664000" cy="1439640"/>
          </a:xfrm>
          <a:prstGeom prst="wedgeEllipseCallout">
            <a:avLst>
              <a:gd name="adj1" fmla="val 40282"/>
              <a:gd name="adj2" fmla="val 619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nne n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32000" y="4581360"/>
            <a:ext cx="2736720" cy="1468440"/>
          </a:xfrm>
          <a:prstGeom prst="wedgeEllipseCallout">
            <a:avLst>
              <a:gd name="adj1" fmla="val -56958"/>
              <a:gd name="adj2" fmla="val -1101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bientô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5084640"/>
            <a:ext cx="2449440" cy="1152720"/>
          </a:xfrm>
          <a:prstGeom prst="wedgeEllipseCallout">
            <a:avLst>
              <a:gd name="adj1" fmla="val 67046"/>
              <a:gd name="adj2" fmla="val -1304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u re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6000" y="7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7800" y="124200"/>
            <a:ext cx="26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00000" y="189000"/>
            <a:ext cx="2519640" cy="974520"/>
          </a:xfrm>
          <a:prstGeom prst="wedgeEllipseCallout">
            <a:avLst>
              <a:gd name="adj1" fmla="val -37083"/>
              <a:gd name="adj2" fmla="val 1765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n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89000"/>
            <a:ext cx="2664000" cy="1439640"/>
          </a:xfrm>
          <a:prstGeom prst="wedgeEllipseCallout">
            <a:avLst>
              <a:gd name="adj1" fmla="val 40282"/>
              <a:gd name="adj2" fmla="val 619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n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5373720"/>
            <a:ext cx="2374920" cy="1152360"/>
          </a:xfrm>
          <a:prstGeom prst="wedgeEllipseCallout">
            <a:avLst>
              <a:gd name="adj1" fmla="val -23662"/>
              <a:gd name="adj2" fmla="val -1961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u re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907920"/>
            <a:ext cx="2952720" cy="974880"/>
          </a:xfrm>
          <a:prstGeom prst="wedgeEllipseCallout">
            <a:avLst>
              <a:gd name="adj1" fmla="val -48601"/>
              <a:gd name="adj2" fmla="val 1228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ent t’appelles-tu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00720" y="1268280"/>
            <a:ext cx="2663640" cy="1440000"/>
          </a:xfrm>
          <a:prstGeom prst="wedgeEllipseCallout">
            <a:avLst>
              <a:gd name="adj1" fmla="val 70615"/>
              <a:gd name="adj2" fmla="val 276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e m’app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79640" y="1773360"/>
            <a:ext cx="2808360" cy="1485720"/>
          </a:xfrm>
          <a:prstGeom prst="wedgeEllipseCallout">
            <a:avLst>
              <a:gd name="adj1" fmla="val -73291"/>
              <a:gd name="adj2" fmla="val -87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ça v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565360"/>
            <a:ext cx="2954160" cy="1079640"/>
          </a:xfrm>
          <a:prstGeom prst="wedgeEllipseCallout">
            <a:avLst>
              <a:gd name="adj1" fmla="val 64134"/>
              <a:gd name="adj2" fmla="val 99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Ça va m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2565360"/>
            <a:ext cx="2954160" cy="1079640"/>
          </a:xfrm>
          <a:prstGeom prst="wedgeEllipseCallout">
            <a:avLst>
              <a:gd name="adj1" fmla="val 64134"/>
              <a:gd name="adj2" fmla="val 99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Ça va bien mer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565360"/>
            <a:ext cx="2954160" cy="1079640"/>
          </a:xfrm>
          <a:prstGeom prst="wedgeEllipseCallout">
            <a:avLst>
              <a:gd name="adj1" fmla="val 64134"/>
              <a:gd name="adj2" fmla="val 99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me ci, comm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ç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3573360"/>
            <a:ext cx="2954520" cy="1468440"/>
          </a:xfrm>
          <a:prstGeom prst="wedgeEllipseCallout">
            <a:avLst>
              <a:gd name="adj1" fmla="val 57416"/>
              <a:gd name="adj2" fmla="val -573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’ai ____ 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2060640"/>
            <a:ext cx="1371600" cy="2217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2000" y="189000"/>
            <a:ext cx="2438280" cy="1257120"/>
          </a:xfrm>
          <a:prstGeom prst="wedgeEllipseCallout">
            <a:avLst>
              <a:gd name="adj1" fmla="val -68828"/>
              <a:gd name="adj2" fmla="val 117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1268280"/>
            <a:ext cx="2971800" cy="1486080"/>
          </a:xfrm>
          <a:prstGeom prst="wedgeEllipseCallout">
            <a:avLst>
              <a:gd name="adj1" fmla="val -57180"/>
              <a:gd name="adj2" fmla="val 467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19280" y="2637000"/>
            <a:ext cx="2438280" cy="1485720"/>
          </a:xfrm>
          <a:prstGeom prst="wedgeEllipseCallout">
            <a:avLst>
              <a:gd name="adj1" fmla="val -62944"/>
              <a:gd name="adj2" fmla="val -458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9000"/>
            <a:ext cx="2438640" cy="1257120"/>
          </a:xfrm>
          <a:prstGeom prst="wedgeEllipseCallout">
            <a:avLst>
              <a:gd name="adj1" fmla="val 44592"/>
              <a:gd name="adj2" fmla="val 1102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3280" y="1268280"/>
            <a:ext cx="2971800" cy="1486080"/>
          </a:xfrm>
          <a:prstGeom prst="wedgeEllipseCallout">
            <a:avLst>
              <a:gd name="adj1" fmla="val 65898"/>
              <a:gd name="adj2" fmla="val 589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16360" y="2492280"/>
            <a:ext cx="2819520" cy="1828800"/>
          </a:xfrm>
          <a:prstGeom prst="wedgeEllipseCallout">
            <a:avLst>
              <a:gd name="adj1" fmla="val 61037"/>
              <a:gd name="adj2" fmla="val -19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63640" y="4149720"/>
            <a:ext cx="2819520" cy="1600200"/>
          </a:xfrm>
          <a:prstGeom prst="wedgeEllipseCallout">
            <a:avLst>
              <a:gd name="adj1" fmla="val -54888"/>
              <a:gd name="adj2" fmla="val -691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88000" y="4076640"/>
            <a:ext cx="2819160" cy="1828800"/>
          </a:xfrm>
          <a:prstGeom prst="wedgeEllipseCallout">
            <a:avLst>
              <a:gd name="adj1" fmla="val 62231"/>
              <a:gd name="adj2" fmla="val -883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848720" y="1989000"/>
            <a:ext cx="1295280" cy="228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-13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00" y="-91440"/>
            <a:ext cx="26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5229360"/>
            <a:ext cx="2971800" cy="1485720"/>
          </a:xfrm>
          <a:prstGeom prst="wedgeEllipseCallout">
            <a:avLst>
              <a:gd name="adj1" fmla="val -48717"/>
              <a:gd name="adj2" fmla="val -118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35640" y="5029200"/>
            <a:ext cx="2819520" cy="1828800"/>
          </a:xfrm>
          <a:prstGeom prst="wedgeEllipseCallout">
            <a:avLst>
              <a:gd name="adj1" fmla="val 56476"/>
              <a:gd name="adj2" fmla="val -97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68360" y="549360"/>
            <a:ext cx="2438640" cy="974520"/>
          </a:xfrm>
          <a:prstGeom prst="wedgeEllipseCallout">
            <a:avLst>
              <a:gd name="adj1" fmla="val -68814"/>
              <a:gd name="adj2" fmla="val 1366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l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67640" y="2133720"/>
            <a:ext cx="1295280" cy="228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2205000"/>
            <a:ext cx="1371600" cy="2217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1341360"/>
            <a:ext cx="2952720" cy="974880"/>
          </a:xfrm>
          <a:prstGeom prst="wedgeEllipseCallout">
            <a:avLst>
              <a:gd name="adj1" fmla="val -62740"/>
              <a:gd name="adj2" fmla="val 561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ent t’appelles-tu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24360" y="4365720"/>
            <a:ext cx="2806560" cy="1511280"/>
          </a:xfrm>
          <a:prstGeom prst="wedgeEllipseCallout">
            <a:avLst>
              <a:gd name="adj1" fmla="val 86087"/>
              <a:gd name="adj2" fmla="val -80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’ai ____ 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13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00" y="-91440"/>
            <a:ext cx="26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47640" y="3357720"/>
            <a:ext cx="2592720" cy="1196640"/>
          </a:xfrm>
          <a:prstGeom prst="wedgeEllipseCallout">
            <a:avLst>
              <a:gd name="adj1" fmla="val -75231"/>
              <a:gd name="adj2" fmla="val -229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l âge as-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2013120" cy="1454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461360" y="2133720"/>
            <a:ext cx="1682640" cy="1726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643280" y="189000"/>
            <a:ext cx="2664000" cy="1439640"/>
          </a:xfrm>
          <a:prstGeom prst="wedgeEllipseCallout">
            <a:avLst>
              <a:gd name="adj1" fmla="val 58578"/>
              <a:gd name="adj2" fmla="val 1062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l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4653000"/>
            <a:ext cx="2303640" cy="1109520"/>
          </a:xfrm>
          <a:prstGeom prst="wedgeEllipseCallout">
            <a:avLst>
              <a:gd name="adj1" fmla="val -66125"/>
              <a:gd name="adj2" fmla="val -1654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bientô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5516640"/>
            <a:ext cx="2232000" cy="1065240"/>
          </a:xfrm>
          <a:prstGeom prst="wedgeEllipseCallout">
            <a:avLst>
              <a:gd name="adj1" fmla="val -46300"/>
              <a:gd name="adj2" fmla="val -2219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u re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6000" y="7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7800" y="124200"/>
            <a:ext cx="26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438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333360"/>
            <a:ext cx="2519280" cy="974880"/>
          </a:xfrm>
          <a:prstGeom prst="wedgeEllipseCallout">
            <a:avLst>
              <a:gd name="adj1" fmla="val -34560"/>
              <a:gd name="adj2" fmla="val 1636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nj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00720" y="260280"/>
            <a:ext cx="2664000" cy="1440000"/>
          </a:xfrm>
          <a:prstGeom prst="wedgeEllipseCallout">
            <a:avLst>
              <a:gd name="adj1" fmla="val 10129"/>
              <a:gd name="adj2" fmla="val 97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nne n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2000" y="5084640"/>
            <a:ext cx="2592360" cy="1224000"/>
          </a:xfrm>
          <a:prstGeom prst="wedgeEllipseCallout">
            <a:avLst>
              <a:gd name="adj1" fmla="val 31995"/>
              <a:gd name="adj2" fmla="val -2139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u re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2276640"/>
            <a:ext cx="2448000" cy="1198440"/>
          </a:xfrm>
          <a:prstGeom prst="wedgeEllipseCallout">
            <a:avLst>
              <a:gd name="adj1" fmla="val -76717"/>
              <a:gd name="adj2" fmla="val -228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en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ça v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1268280"/>
            <a:ext cx="2663640" cy="1440000"/>
          </a:xfrm>
          <a:prstGeom prst="wedgeEllipseCallout">
            <a:avLst>
              <a:gd name="adj1" fmla="val 70615"/>
              <a:gd name="adj2" fmla="val 276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e m’app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2349360"/>
            <a:ext cx="2954160" cy="1079640"/>
          </a:xfrm>
          <a:prstGeom prst="wedgeEllipseCallout">
            <a:avLst>
              <a:gd name="adj1" fmla="val 64134"/>
              <a:gd name="adj2" fmla="val 99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me ci, comm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ç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56000" y="3284640"/>
            <a:ext cx="2954520" cy="1079280"/>
          </a:xfrm>
          <a:prstGeom prst="wedgeEllipseCallout">
            <a:avLst>
              <a:gd name="adj1" fmla="val 69773"/>
              <a:gd name="adj2" fmla="val -71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Ça va bien mer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3716280"/>
            <a:ext cx="2954520" cy="1079640"/>
          </a:xfrm>
          <a:prstGeom prst="wedgeEllipseCallout">
            <a:avLst>
              <a:gd name="adj1" fmla="val 25925"/>
              <a:gd name="adj2" fmla="val -91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Ça va 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19:22:26Z</dcterms:created>
  <dc:creator>Helen</dc:creator>
  <dc:description/>
  <dc:language>en-US</dc:language>
  <cp:lastModifiedBy>Helen</cp:lastModifiedBy>
  <dcterms:modified xsi:type="dcterms:W3CDTF">2009-07-07T20:24:20Z</dcterms:modified>
  <cp:revision>14</cp:revision>
  <dc:subject/>
  <dc:title>Slide 1</dc:title>
</cp:coreProperties>
</file>